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B47-8715-490F-9351-99F119ED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A22-C8BA-4413-ACBE-D2D50C79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E538-3DCE-4A96-B7AF-913F0B48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7C6-24CF-4CE6-8474-CB09B13D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EC84-185B-408D-86D7-59AF3D82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C98A-CE86-49B4-BFEC-D15A69A5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3887-9684-4941-B3BB-BC899D52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7D81-AAFA-45EF-80F7-34532BC2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081B-2514-4213-B78E-D5DCA846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163C-E9B3-4788-B34D-BE745B5E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1688-6386-4C68-A05E-5B3ED7BC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C6D-E558-4C85-AC42-CDAA100C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9B65-F236-4A93-8CED-2750A63A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961F-35B3-4B44-9E95-FB66762E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4C46-ACC1-4318-9706-DABB1FA5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3EE1-A9EE-4592-ABF6-58FE4BD3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4AF1-0C05-4C0D-8414-A875E1C8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9F0-7009-4748-A1B8-50AE1CCD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BDC-CB5E-467C-A117-E5C9CD04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EBA-3E16-4B4F-918B-88EB85BA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4F7-54BC-41D0-B2B1-98119CC8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98F-CFE4-49E4-B615-A9CF32BA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2AE-4DA0-4A91-B937-349B68D8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08C8-4F3A-4B81-8F2A-4597D8B7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635E-2A90-496C-8E9F-A28A1F43E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9781-B87C-49B4-8E7C-8E805A2EB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Electrochemistry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- how chemistry and electricity are re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What makes chemistry happen?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rons in atoms determine chemical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not all the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uild an oxygen atom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1441440"/>
            <a:ext cx="83818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y it is H</a:t>
            </a:r>
            <a:r>
              <a:rPr b="0" lang="en-US" sz="4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 and not H</a:t>
            </a:r>
            <a:r>
              <a:rPr b="0" lang="en-US" sz="44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45820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Electrons form chemical bond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electrons make covalent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red electrons make ionic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really not either/or - all bonds are more or less ionic or coval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nd character depends on how close each of the participant atoms is close to a full shell - 8 valence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legtronegativities of the Element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886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lectroplating copper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06436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601992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he Reaction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63244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1:35:36Z</dcterms:created>
  <dc:creator>thomas hsu</dc:creator>
  <dc:description/>
  <cp:keywords/>
  <dc:language>en-US</dc:language>
  <cp:lastModifiedBy>thomas hsu</cp:lastModifiedBy>
  <cp:lastPrinted>1904-01-01T00:00:00Z</cp:lastPrinted>
  <dcterms:modified xsi:type="dcterms:W3CDTF">2008-07-31T13:16:42Z</dcterms:modified>
  <cp:revision>3</cp:revision>
  <dc:subject/>
  <dc:title>Electrochemi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