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15.pct" ContentType="image/x-pict"/>
  <Override PartName="/ppt/media/image14.pct" ContentType="image/x-pict"/>
  <Override PartName="/ppt/media/image1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media/image7.pct" ContentType="image/x-pict"/>
  <Override PartName="/ppt/media/image12.pct" ContentType="image/x-pict"/>
  <Override PartName="/ppt/media/image8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9272-76EB-4253-BCC1-21018D766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70AA-D126-4F6F-B58E-F6D7CE881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072E-EAC6-4A81-8AF1-A70B8DBF9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723D-F751-428A-924B-7425C3C09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3677-BB57-4A93-88B2-81BB1CCC0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E4A7-7AEB-4BAF-A1A0-B436B9422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DC34-07CF-454B-9789-76E67786B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14B4-BC64-4E5B-AE66-510CC09E9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9B3D-06D2-48DD-9DB2-803FFCA20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2CDF-5CD8-457A-BA51-C00573A11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CA7D-ED4B-49AF-B52A-258B5ED25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F0BC-CFE0-4B4C-9420-7D6A1892F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57634-F39C-4175-88FE-4C5778EE3F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ct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Amino Acids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tei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955960" y="609480"/>
            <a:ext cx="32320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373040" y="609480"/>
            <a:ext cx="63961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828800" y="609480"/>
            <a:ext cx="5486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073160" y="609480"/>
            <a:ext cx="69976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85800" y="820800"/>
            <a:ext cx="7772400" cy="50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346480" y="609480"/>
            <a:ext cx="44510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719280" y="609480"/>
            <a:ext cx="77054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A DNA sequence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701"/>
                </a:solidFill>
                <a:latin typeface="Times New Roman"/>
              </a:rPr>
              <a:t>TGA-GTT-GAT-GGC-CTT-GAC-GCT-TCT-TGT-TA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uild the protein coded for by this sequ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a sense, YOU are the mR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573280" y="609480"/>
            <a:ext cx="39956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225440" y="609480"/>
            <a:ext cx="66931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828800" y="609480"/>
            <a:ext cx="5486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85800" y="1192320"/>
            <a:ext cx="77724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85800" y="1380960"/>
            <a:ext cx="7772400" cy="39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757520" y="609480"/>
            <a:ext cx="5627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957320" y="609480"/>
            <a:ext cx="52275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5T02:09:16Z</dcterms:created>
  <dc:creator>Debbie Carlisle</dc:creator>
  <dc:description/>
  <dc:language>en-US</dc:language>
  <cp:lastModifiedBy>thomas hsu</cp:lastModifiedBy>
  <dcterms:modified xsi:type="dcterms:W3CDTF">2008-08-01T12:51:19Z</dcterms:modified>
  <cp:revision>6</cp:revision>
  <dc:subject/>
  <dc:title>Amino Acids</dc:title>
</cp:coreProperties>
</file>