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0F4-CFFF-47B4-AD9A-FE4482DA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122-4979-4E09-916F-E200F89A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45A-FF45-46F7-80B5-8A75EDEE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4DE-8AED-44CF-ABE1-93EE711E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1608-BB2E-4EED-90AE-C3AF4C8E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5F06-86D1-420E-84F4-781371D2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3E64-082E-4744-BEEC-2AF0CBEA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19FD-B465-4194-ABC4-B50E277F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41D5-3E47-491B-81F2-B749D64B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2027-C0DC-45F0-A0CF-5F613906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7C1C-77BC-48D7-8600-9C4C2786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23A-F9FB-4E30-9283-D6E8FCDF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D18A-30A7-4B6C-9829-9513C74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81BA-FEDE-4C3A-BFCE-0A991961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4FF6-E6C2-44E2-8DB5-BF48455C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6FE2-7A45-4CEF-B5C2-53FC3293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89D1-97AA-4ECC-B763-F0461A37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9F8-2DB4-47F7-A64E-0DBB8DC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56C-D710-48CB-B579-50674D00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7DE-0FDA-4519-A295-9A1C4A6B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87F-5D3A-40D9-94E7-8D9EEB35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D82-A37C-47B4-906A-F39AF1E7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9CA-FF5A-4191-AF39-484BA05D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BA4-330F-4D54-9B47-38FD76A5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4896-A234-4438-A2C8-3C93C8488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8658-44EB-4D82-8CA9-6A1E430FE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How concentrated an acid is vinegar?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mple titration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big idea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s and bases neutralize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se of known concentration can be used to determine the concentration of an unknown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quivalence point, the moles of acid and base molecules are exactly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 change is the indication of equival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rea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s and bases neutralize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se of known concentration can be used to determine the concentration of an unknown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quivalence point, the moles of acid and base molecules are exactly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 change is the indication of equival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3733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ach mole of NaOH neutralizes one mole of acet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r a 1M solution, each mL is 0.001 moles of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86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add EXACTLY equal moles of NaOH, the phenopthalein will turn pink and STAY p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ritical ONE DROP is the one that doe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52326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4647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alibrate the dropper: How many mL in one dr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unt the drops to fill a 4 mL cuvet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81480" y="380880"/>
            <a:ext cx="3171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4647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o the cal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0232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your measured concentration of acetic acid in the vineg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is compare with what the bottle say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2:15:33Z</dcterms:created>
  <dc:creator>thomas hsu</dc:creator>
  <dc:description/>
  <dc:language>en-US</dc:language>
  <cp:lastModifiedBy>thomas hsu</cp:lastModifiedBy>
  <dcterms:modified xsi:type="dcterms:W3CDTF">2008-07-31T15:18:29Z</dcterms:modified>
  <cp:revision>5</cp:revision>
  <dc:subject/>
  <dc:title>How strong an acid is vinegar?</dc:title>
</cp:coreProperties>
</file>